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E97-5C63-41F8-B26F-DA506215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6E2-B520-475C-B29E-A3C27BB1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1E0-AEE1-49F3-A89D-FE722D31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775-4832-428B-9908-7BF9BEE7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D32-ADB7-42BD-B69B-A5EFAAED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CE42-E98A-4B7A-A9ED-B46B3FB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9E2-68A6-4632-838E-46BD427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0BD7-3696-4003-A074-741487C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E66C-7E18-4AF4-9DCC-D9975383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762120"/>
            <a:ext cx="792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A28E-F073-4D72-BD83-49E00D5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A361-A232-4FBD-85F5-33C42FB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67A-AB1C-4CC4-B513-79E96A2D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C8BF-3046-4D75-A572-EC9AD10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C91-A4D3-4262-AC77-B266A25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1E9-924F-4BB5-8432-9DA41490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19AB-8D6F-4290-8857-C1165A4F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E56B-ED28-4B37-8554-F1091211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35D-ABCD-41C2-9715-6CE5CC1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615-8256-4447-B902-1149E3A8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7A0-D1DD-4137-BCA4-6DE8980E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62120"/>
            <a:ext cx="792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222-6E57-4D91-B1D2-8A274F21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DDF-BBBB-4A85-BC20-A030F38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031-5797-4511-8F49-0DF252D6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D23-398E-4FFB-B5FE-C81486F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F8D-89D1-43D2-91C7-EE580DC0F022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 Linotyp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B1C1-0D46-42CC-9D73-A6563B1C80CB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Palatino Linotype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Palatino Linotype"/>
              </a:rPr>
              <a:t>Fourth Outline Level</a:t>
            </a:r>
            <a:endParaRPr b="1" lang="en-US" sz="1800" spc="-1" strike="noStrike">
              <a:solidFill>
                <a:srgbClr val="ffff00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ffff00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Palatino Linotype"/>
              </a:rPr>
              <a:t>Fifth Outline Level</a:t>
            </a:r>
            <a:endParaRPr b="1" lang="en-US" sz="1600" spc="-1" strike="noStrike">
              <a:solidFill>
                <a:srgbClr val="ffff00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Palatino Linotype"/>
              </a:rPr>
              <a:t>Sixth Outline Level</a:t>
            </a:r>
            <a:endParaRPr b="1" lang="en-US" sz="1600" spc="-1" strike="noStrike">
              <a:solidFill>
                <a:srgbClr val="ffff00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Palatino Linotype"/>
              </a:rPr>
              <a:t>Seventh Outline Level</a:t>
            </a:r>
            <a:endParaRPr b="1" lang="en-US" sz="16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alatino Linotype"/>
              </a:rPr>
              <a:t>Life of Christ – Part 2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Palatino Linotype"/>
              </a:rPr>
              <a:t>“Sir, We Would See Jesus”</a:t>
            </a:r>
            <a:endParaRPr b="1" lang="en-US" sz="40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274284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Quarter 10, Lesson 7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Pages 120-124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Luke 17:11 – 18:14; Mark 10:1-16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504600" y="25909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345000">
            <a:off x="3200040" y="38098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33520"/>
            <a:ext cx="3124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Out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ears of Pr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ginning Min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 of Reti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Closing Min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Jesus starts His last journey to Jerusa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ast 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ur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xal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The Close of Jesus’ Ministry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(Outlined As Follows):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Palatino Linotype"/>
              </a:rPr>
              <a:t>From Fall To The Spring of His Death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Jesus arrived in Jerusalem for Feast of Tabernacles  - John 7-10; Luke 10-13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Feast of Dedication (three months before His death) – John 10:22-39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Jesus withdraws to Perea – John 10:40-42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Jesus starts His last journey to Jerusalem –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Lk. 17:11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Ten Lepers are healed – Lk. 17:12-19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One returns to give thanks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He is a Samaritan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How disheartening to God  Who gives such tremendous blessings and opportunities for healing of the soul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Jesus explains the nature of the kingdom and predicts judgment – Lk. 17:20-37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t a location on the map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But, in the most important place of battle: inside the human heart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he heart would be severely tested in the days leading to the destruction of Jerusalem (AD 70)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Two Parables on Prayer (Luke 18:1-14):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The unrighteous judge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Persist and always believe that you can touch the heart of God (who is very righteous)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 Pharisee and the Publican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Pride will get you nowhere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Humility is always key to forgiveness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As Jesus travels from Galilee through Perea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Palatino Linotype"/>
              </a:rPr>
              <a:t>He teaches concerning divorce (Mark 10:1-12; Matt. 19:1-12)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swers the question of whether it is lawful to    divorce for every reason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One flesh should not be separated – Gen. 2:24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Moses did not make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certificate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of divorce a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ivine permission for any and every divorce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Some may have to be eunuchs (single) for the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sake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of the kingdom of God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The kingdom and the souls involved make it more than worth it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Jesus receives little children (Mark 10:13-16; Matt. 19:13-15; Luke 18:15-17):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y are valuable for the future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y represent souls with great potential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y possess characteristics that illustrate what God wants from people entering His kingdom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9:17:39Z</dcterms:created>
  <dc:creator>Terry W. Benton</dc:creator>
  <dc:description/>
  <dc:language>en-US</dc:language>
  <cp:lastModifiedBy>Frank D Vines</cp:lastModifiedBy>
  <dcterms:modified xsi:type="dcterms:W3CDTF">2006-07-29T21:46:31Z</dcterms:modified>
  <cp:revision>2</cp:revision>
  <dc:subject/>
  <dc:title>Life of Christ – Part 2 “Sir, We Would See Jesus”</dc:title>
</cp:coreProperties>
</file>